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2784-291F-4817-9BB7-17A9AD44A6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EBFD-2B57-46FB-ADEF-9D43625960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3585-8604-4536-9A06-AECFEDA5D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E7DF7-80FC-4096-A876-273C94EEF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B007-AD0D-4329-A86D-898100350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65A1-A9A7-4B21-B1B1-658A6F78E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4CE13-FFBA-4DC3-8368-94DB077B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4227F-B8A1-4931-9AB6-B5B18C3A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FA49B-547E-4811-8AAA-A303BDF6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086DB-4BF7-4E78-8350-6F20A388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F745A-1BB7-4ED7-B634-87A5472A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B9F40-4612-4D74-AF70-F5EB0E51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E2A73-9E78-4DA2-B3FB-5A42D019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C82B-8D44-4349-B9C9-0C05DA701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11B4D-C54D-4D84-B703-E298FE8B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CFE71-70CC-4D32-9B64-EE637E8D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A8E6B-3E47-4A0C-AC32-C0BD18DA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05AC9-1438-430E-9365-207A77C0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2E295-4C5B-4B84-B5FE-C5EEC76D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46F76D-CD82-4A00-A9BC-12197D86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4C9B85-56A3-46D8-B522-84BBF40F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83F0D0-88F7-43C4-AF70-303FDA4C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96B065-85C3-4984-B3C1-C88A90F6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4A3783-AF0B-42BE-9F96-F30DB8C9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EE13-A577-4E85-AC24-A886EC2A51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9E9ECA-3257-49DC-834D-D7D3319D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EB2172-BADD-4C21-BDAC-F71D778C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EAC7C3-D05B-484D-ACD9-F3174CC8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C50BDE-D55C-4F5F-925F-32C9094F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F95EC8-701B-4D50-9FA2-DD65210C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5CDB5A-7B20-43D5-89DD-C43E4DE3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924E42-976F-4F28-A005-14A42719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92123-6025-4575-BF5D-FC6279EECD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2AF02C-6932-40D0-9734-7C86ED6A7F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52139-B41C-404A-BDC0-4EAEFD0E8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73E0-05D6-490E-B9C8-39AF907F36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C12C6-D7CC-4BDF-94EA-AB81125B78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C1970-5936-41EC-897B-3A604E5766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3E4AA-39BA-42C8-8DA6-5B32D429FC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C1C09-611A-4876-BA64-15418DEA5E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F6B2F-A90A-4251-B50B-F383441EEA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39B28-6795-49C1-A803-5C4B4ED7FA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807AD-285B-4A4D-9AF7-DDEB9EC9DE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BA377-3B93-4055-AA89-698CF156C1B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ECA0C-E774-430E-B43F-F6EFD1398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3CC9-621C-4A52-BFD3-3E9FD5CC1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FDC62-4BC6-4637-AF3D-922F342AB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577C-E1B6-41F2-B45E-695DBBCCC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AD6A-DE61-4D89-B8F3-7C78B6F37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756A-1A02-4447-B933-09CF6BFFF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8E0B-6D46-4008-89D5-7E162117329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B692-3433-491A-A788-C37F20E116B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DF60-9A2A-4708-8ABD-60742546900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7851-9135-4C5E-BDC8-7EE3CE2A59A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2781360"/>
            <a:ext cx="807264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ruction Products Regulation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ights and obligations of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0179-FF75-41EF-87D8-474BF3263E5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735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vide a clear, complete and reliable information on products placed on the market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Same obligation for all manufacturers (&amp; importers) in Europe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Declaration of performance (DoP) for a product covered by an hEN or an ETA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termination of the “product-type”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Assessment of the product performances in relation to the essential characteristics relevant for the intended use (Recital 28, Articles 4, 11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3" marL="1530720" indent="-223920" algn="just">
              <a:spcBef>
                <a:spcPts val="249"/>
              </a:spcBef>
              <a:buClr>
                <a:srgbClr val="808080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f5f5f"/>
                </a:solidFill>
                <a:latin typeface="Arial"/>
              </a:rPr>
              <a:t>With the use of European methods and involvement of a Notified Body for systems 1+, 1, 2+ et 3 (Annex V) 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mplementation of a FPC in any case, complying with the requirements detailed in hEN/ETA (Annex V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3" marL="1530720" indent="-223920" algn="just">
              <a:spcBef>
                <a:spcPts val="249"/>
              </a:spcBef>
              <a:buClr>
                <a:srgbClr val="808080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f5f5f"/>
                </a:solidFill>
                <a:latin typeface="Arial"/>
              </a:rPr>
              <a:t>Verification of constancy of performances, involving a Notified Body for systems 1+, 1, 2+ (Annex V)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rawn up a DoP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erformances by levels or classes, for each essential characteristic listed in hEN/ETA and relevant for the declared intended use (Art 6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NPD option for characteristics not subject of any regulatory requirement where the product is used, but 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n</a:t>
            </a: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o 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empty DoP (</a:t>
            </a: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Art 6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Reference of the product-type, system of verification of constancy of performance and ref. of hEN/ETA/STD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Unique identification code for the DoP (Traceability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nformation on hazardous substances provided together with the DoP (Art 6.5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Supply the DoP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With each product made available on the market (Art 7.1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Either in paper form or by electronic means (Art 7.1), or using website under conditions to be determined by a delegated act (Art 7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8A21-6B2F-4350-9F7B-038A95FC87B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Content Placeholder 1" descr=""/>
          <p:cNvPicPr/>
          <p:nvPr/>
        </p:nvPicPr>
        <p:blipFill>
          <a:blip r:embed="rId1"/>
          <a:stretch/>
        </p:blipFill>
        <p:spPr>
          <a:xfrm>
            <a:off x="225360" y="1566720"/>
            <a:ext cx="8759880" cy="487044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BE4B-9C70-4F14-95A3-C50963A85B9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14200" y="1456920"/>
            <a:ext cx="87868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claration of Performance (DoP)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Possible derogations: Products individually manufactured or custom-made in a non-series process (Art 5.1), on the construction site (art 5.2), in a traditional manner (Art 5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Use NPD option (no test!) if the product is not regulated where the product is intended to be used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Draw up the DoP on the basis of certificate (or declaration) of conformity (existing CE marking affixed under CPD), for products placed on the market before 01/07/2013 (Art 66.2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termination of Product-type: Simplified procedures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Deemed to satisfy procedure to declare level a class (Art 27.5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Simplified procedures avoiding useless tests: WT/WFT, Shared IT, Cascading (Art 36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Specific procedures possibly used by micro-enterprises turning system 3 into system 4 (Rec 27, Art 37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roducts individually manufactured turning system 3 into system 4 (Art 38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European Technical Assessment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Request an ETA when hENs do not allow to assess the product to have the benefit of CE marking (Art 19)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Renew ETAs already delivered at the end of their validity period, and on the basis of EADs consistent with the current  ETAGs or CUAPS (Recital 21, Art 66.3-4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roduct Contact Points: Inform on the existing regulatory provisions, free of charge (Rec 42-44, Art 10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nformation campaigns for the construction sector, e.g. economic operators and users of products (Rec 54)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1892-DA4A-4FB5-8AED-3900669F657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Right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katsage</cp:lastModifiedBy>
  <cp:lastPrinted>2000-03-16T10:24:10Z</cp:lastPrinted>
  <dcterms:modified xsi:type="dcterms:W3CDTF">2011-07-01T14:58:12Z</dcterms:modified>
  <cp:revision>596</cp:revision>
  <dc:subject/>
  <dc:title>Aucun titre de diapositive</dc:title>
</cp:coreProperties>
</file>